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50397"/>
        <c:axId val="48952443"/>
      </c:barChart>
      <c:catAx>
        <c:axId val="77503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52443"/>
        <c:crosses val="autoZero"/>
        <c:auto val="1"/>
        <c:lblAlgn val="ctr"/>
        <c:lblOffset val="100"/>
        <c:noMultiLvlLbl val="0"/>
      </c:catAx>
      <c:valAx>
        <c:axId val="489524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503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BB57-47DE-468E-907D-C86CE386E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67A3-3948-49A4-BD9A-6516A359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AFA2-9266-4597-AB76-8E66E934B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9666-9199-4C03-B0B2-2B999EE3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40D0-7D8E-40C6-ACAC-55FC2278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EA15-EAB5-4A0E-8BF2-B247A8C2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C098-7EC8-4BB5-9714-1C6C8821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221A-0FE1-442C-A36E-CC0B25FA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E800-5596-4269-B8B6-D0AA3648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9246-55DD-407F-8831-C600EEDE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1A26-0C0D-4B6B-8DB8-522D6693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E336-AF5F-46FD-9625-C657004E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D806E-B38C-4902-9674-53ABA2512D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